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6A11-9FBE-4D3A-B935-5062CADA0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D6E0-BD03-4D31-AE3F-3326E2CF1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du.pe.ca/southernkings/microfung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re what type of microscopic fungi this is…looks like an image of hyph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1EB8-2AC4-48DD-B01F-E259FC7A7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college-prep.org/~bernie/sciproject/project/Kingdoms/Fungi5/Fungi_Evolu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9EC6-46A3-4079-B7D6-6432B1E4B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E462-EC27-44B0-9D6D-46A70A019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esources.schoolscience.co.uk/SGM/sgmmicrobe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BBD6-D4C2-489E-BEE1-B59599EA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Fungi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om: http://rachaelherbert.blogspot.ca/2010/04/happy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1107-E5A6-41AA-A5EC-4650380E4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ile:Orange_and_white_lich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9734-77DE-427A-8A20-5BCA83FEC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reenmanconservation.co.uk/Mycorrhiz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2924-3E6C-4D16-A8B9-1876B326F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bertan1956.blogspot.ca/2011/01/leaf-cutter-ants-overachievers-of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3BAC-B636-4903-973A-E302F49C5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zazzle.ca/i_love_fungi_mug-1680347453429755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like penicillin (antibiotic), cyclosporine (for organ trans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B3AB-7B04-4A52-9AD9-7E962D244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hotoshopcontest.com/view-entry/183031/angry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AFD6-53B5-4122-AF18-15955F26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wise from top left: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Amanita muscar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 basidiomycete;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Sarcoscypha coccin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 ascomycete;bread covered in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m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a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chyt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an 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Aspergill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conidioph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681D-FA51-466B-9664-B7E8BA46C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info_8584629_similarities-between-plants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D247-8F8B-4335-9A14-B50E281D2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info_8584629_similarities-between-plants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7CD-B2F3-43C1-AD54-D02DFEC51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haron-taxonomy2009-p3.wikispaces.com/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Fungi are more closely related to animals, no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D1B5-E835-49BF-842A-2287D7FF9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256-D852-4DA1-989C-9580C15C0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bio1903.nicerweb.com/Locked/media/ch31/fungus-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2D40-D4B1-42DB-9FCE-04762554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38CE-98D8-4140-B7F7-8A0490E5F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903.nicerweb.com/Locked/media/ch31/phyl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DCF-0E11-419A-BE08-3F5741DC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3E3-F8EF-4938-8A4B-D0B1B63A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36F-58A7-461A-B509-71CBA272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A6D-90BA-440E-A0DC-D0E4E92A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4D8-4B22-4C95-8936-AE43CEB6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93F-2FFD-49EF-9D35-0DEA9E7C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0EF-8E2D-40A0-8253-9EF26CEA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B34-B183-4C31-B71B-A18782DF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971-2891-4B0B-AF68-D5732AD3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855-F9DC-4E80-8ED5-4C4EC5F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5B2-CF12-41C3-A350-E85B1819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0C6-3F31-4237-BC23-F78F90A2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4BE1-B8DD-4808-8541-081473C32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phylogeny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re complicated, with stages of sexual &amp; asexual reproduction (alternation of gene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sidiomyce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ch as mushrooms) sometimes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kary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 with 2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es by 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y evolved from multicellular 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yeast"/>
          <p:cNvPicPr/>
          <p:nvPr/>
        </p:nvPicPr>
        <p:blipFill>
          <a:blip r:embed="rId1"/>
          <a:stretch/>
        </p:blipFill>
        <p:spPr>
          <a:xfrm>
            <a:off x="4648320" y="2482920"/>
            <a:ext cx="3809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ers (like bac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ymbiotic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4520558924_9acd76afca"/>
          <p:cNvPicPr/>
          <p:nvPr/>
        </p:nvPicPr>
        <p:blipFill>
          <a:blip r:embed="rId1"/>
          <a:stretch/>
        </p:blipFill>
        <p:spPr>
          <a:xfrm>
            <a:off x="441972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i + cyanobacteri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en al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800px-Orange_and_white_lichen"/>
          <p:cNvPicPr/>
          <p:nvPr/>
        </p:nvPicPr>
        <p:blipFill>
          <a:blip r:embed="rId1"/>
          <a:stretch/>
        </p:blipFill>
        <p:spPr>
          <a:xfrm>
            <a:off x="4038480" y="24289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rrhi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al mycelium grows around or within root cells of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9" descr="Mycorrhizal_Root_Tips"/>
          <p:cNvPicPr/>
          <p:nvPr/>
        </p:nvPicPr>
        <p:blipFill>
          <a:blip r:embed="rId1"/>
          <a:stretch/>
        </p:blipFill>
        <p:spPr>
          <a:xfrm>
            <a:off x="4191120" y="2330280"/>
            <a:ext cx="4495680" cy="33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-Cutter 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s clean and chew leaves to feed fun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eats fung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af-Cutting-Ants-Photographic-Print-C12816629"/>
          <p:cNvPicPr/>
          <p:nvPr/>
        </p:nvPicPr>
        <p:blipFill>
          <a:blip r:embed="rId1"/>
          <a:stretch/>
        </p:blipFill>
        <p:spPr>
          <a:xfrm>
            <a:off x="4495680" y="2448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benefi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ble mushrooms, truf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soy sauce, bread, blue chees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of alcoholic beverages &amp; som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i_love_fungi_mug-p168034745342975532enw9p_400"/>
          <p:cNvPicPr/>
          <p:nvPr/>
        </p:nvPicPr>
        <p:blipFill>
          <a:blip r:embed="rId1"/>
          <a:stretch/>
        </p:blipFill>
        <p:spPr>
          <a:xfrm>
            <a:off x="4419720" y="186696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ful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al animal diseases (athle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oot, ringworm, aspergillosi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ungal plant diseases (apple scab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gy1jll286e73vogec1bsy1mwnux7tzggwhgw"/>
          <p:cNvPicPr/>
          <p:nvPr/>
        </p:nvPicPr>
        <p:blipFill>
          <a:blip r:embed="rId1"/>
          <a:stretch/>
        </p:blipFill>
        <p:spPr>
          <a:xfrm>
            <a:off x="4267080" y="230508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Fung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689px-Fungi_collage"/>
          <p:cNvPicPr/>
          <p:nvPr/>
        </p:nvPicPr>
        <p:blipFill>
          <a:blip r:embed="rId1"/>
          <a:stretch/>
        </p:blipFill>
        <p:spPr>
          <a:xfrm>
            <a:off x="1684440" y="1523880"/>
            <a:ext cx="5775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ities to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sess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ungi also grow i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article-new-thumbnail-ehow-images-a08-5v-dl-similarities-between-plants-fungi-800x800"/>
          <p:cNvPicPr/>
          <p:nvPr/>
        </p:nvPicPr>
        <p:blipFill>
          <a:blip r:embed="rId1"/>
          <a:stretch/>
        </p:blipFill>
        <p:spPr>
          <a:xfrm>
            <a:off x="4191120" y="2611440"/>
            <a:ext cx="4267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fro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05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hotosyn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structures (e.g. cell w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article-new-thumbnail-ehow-images-a08-5v-dl-similarities-between-plants-fungi-800x800"/>
          <p:cNvPicPr/>
          <p:nvPr/>
        </p:nvPicPr>
        <p:blipFill>
          <a:blip r:embed="rId1"/>
          <a:stretch/>
        </p:blipFill>
        <p:spPr>
          <a:xfrm>
            <a:off x="4191120" y="2611440"/>
            <a:ext cx="4267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28_04EukPhylogeny"/>
          <p:cNvPicPr/>
          <p:nvPr/>
        </p:nvPicPr>
        <p:blipFill>
          <a:blip r:embed="rId1"/>
          <a:stretch/>
        </p:blipFill>
        <p:spPr>
          <a:xfrm>
            <a:off x="304920" y="590400"/>
            <a:ext cx="85341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gi are heterotrophic with extern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structures usually abov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usually below ground (branched network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h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cel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31_02FungusStructure"/>
          <p:cNvPicPr/>
          <p:nvPr/>
        </p:nvPicPr>
        <p:blipFill>
          <a:blip r:embed="rId1"/>
          <a:stretch/>
        </p:blipFill>
        <p:spPr>
          <a:xfrm>
            <a:off x="658800" y="380880"/>
            <a:ext cx="78264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ty of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ajor phyla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sid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most mush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yg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many mou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c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y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31_09FungalPhylogeny"/>
          <p:cNvPicPr/>
          <p:nvPr/>
        </p:nvPicPr>
        <p:blipFill>
          <a:blip r:embed="rId1"/>
          <a:stretch/>
        </p:blipFill>
        <p:spPr>
          <a:xfrm>
            <a:off x="2028960" y="609480"/>
            <a:ext cx="508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5:41:56Z</dcterms:created>
  <dc:creator>rubina khan</dc:creator>
  <dc:description/>
  <dc:language>en-US</dc:language>
  <cp:lastModifiedBy>rubina khan</cp:lastModifiedBy>
  <dcterms:modified xsi:type="dcterms:W3CDTF">2016-02-24T18:43:58Z</dcterms:modified>
  <cp:revision>101</cp:revision>
  <dc:subject/>
  <dc:title>PowerPoint Presentation</dc:title>
</cp:coreProperties>
</file>